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ИНТЕГРИСАНЕ АКАДЕМСКЕ </a:t>
            </a: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СТУДИЈЕ ФАРМ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9280" y="2852640"/>
            <a:ext cx="878544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ВОД У ФАРМАЦЕУТСКУ ТЕХНОЛОГ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А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едавањ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Раствори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89154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ода као раствар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о се доб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м је добро подно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абилна 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g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писује 2 врсте воде за прављење раство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</a:t>
            </a:r>
            <a:r>
              <a:rPr b="1" lang="sr-Latn-C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qua purificata</a:t>
            </a:r>
            <a:r>
              <a:rPr b="1" lang="sr-Latn-C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чишћена вод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1" lang="sr-Latn-C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qua destilata, aqua demineralisata</a:t>
            </a:r>
            <a:r>
              <a:rPr b="1" lang="sr-C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)</a:t>
            </a:r>
            <a:r>
              <a:rPr b="1" lang="sr-C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тилацијом или деминерализацијом питке воде  - рок трајања 10 да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</a:t>
            </a:r>
            <a:r>
              <a:rPr b="1" lang="sr-Latn-C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qua pro injectione</a:t>
            </a:r>
            <a:r>
              <a:rPr b="1" lang="sr-C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стилацијом свеже пречишћене воде, а затим стерилизациј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нол у фармацији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овани етанол –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thanolum concentratum  - 96%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олуменски процен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оними  и скраћенице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th. Conc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iritus conc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фицинални п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g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g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лажени етанол –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thanolum dilutum – 70%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олуменски процен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оними  и скраћенице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th. dil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iritus vini dil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фицинални по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g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g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ritus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thanolum – 90%   </a:t>
            </a: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олуменски проценти)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иналан само по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g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Spiritus -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90%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 - синоним 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ethano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ропис да се овај алкохол прави од 96% на следећи начи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Spiritus concentratum 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92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ua destilat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8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6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8000"/>
                </a:solidFill>
                <a:latin typeface="Arial"/>
              </a:rPr>
              <a:t>Ph</a:t>
            </a:r>
            <a:r>
              <a:rPr b="1" lang="sr-CS" sz="2800" spc="-1" strike="noStrike">
                <a:solidFill>
                  <a:srgbClr val="008000"/>
                </a:solidFill>
                <a:latin typeface="Arial"/>
              </a:rPr>
              <a:t>. </a:t>
            </a:r>
            <a:r>
              <a:rPr b="1" lang="sr-Latn-CS" sz="2800" spc="-1" strike="noStrike">
                <a:solidFill>
                  <a:srgbClr val="008000"/>
                </a:solidFill>
                <a:latin typeface="Arial"/>
              </a:rPr>
              <a:t>Jug</a:t>
            </a:r>
            <a:r>
              <a:rPr b="1" lang="sr-CS" sz="2800" spc="-1" strike="noStrike">
                <a:solidFill>
                  <a:srgbClr val="008000"/>
                </a:solidFill>
                <a:latin typeface="Arial"/>
              </a:rPr>
              <a:t>. </a:t>
            </a:r>
            <a:r>
              <a:rPr b="1" lang="sr-Latn-CS" sz="2800" spc="-1" strike="noStrike">
                <a:solidFill>
                  <a:srgbClr val="008000"/>
                </a:solidFill>
                <a:latin typeface="Arial"/>
              </a:rPr>
              <a:t>I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Aethanolum concentratum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96%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(во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процен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Aethanolum dilutum         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70%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(во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процен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333399"/>
                </a:solidFill>
                <a:latin typeface="Arial"/>
              </a:rPr>
              <a:t>Ph</a:t>
            </a:r>
            <a:r>
              <a:rPr b="1" lang="sr-CS" sz="2800" spc="-1" strike="noStrike">
                <a:solidFill>
                  <a:srgbClr val="333399"/>
                </a:solidFill>
                <a:latin typeface="Arial"/>
              </a:rPr>
              <a:t>.  </a:t>
            </a:r>
            <a:r>
              <a:rPr b="1" lang="sr-Latn-CS" sz="2800" spc="-1" strike="noStrike">
                <a:solidFill>
                  <a:srgbClr val="333399"/>
                </a:solidFill>
                <a:latin typeface="Arial"/>
              </a:rPr>
              <a:t>Jug</a:t>
            </a:r>
            <a:r>
              <a:rPr b="1" lang="sr-CS" sz="28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sr-Latn-CS" sz="2800" spc="-1" strike="noStrike">
                <a:solidFill>
                  <a:srgbClr val="333399"/>
                </a:solidFill>
                <a:latin typeface="Arial"/>
              </a:rPr>
              <a:t>II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Spiritus concentratum       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96%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(во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процен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Spiritus dilutum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70%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 (во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процен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Spiritus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Aethanolum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90%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(во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процен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333399"/>
                </a:solidFill>
                <a:latin typeface="Arial"/>
              </a:rPr>
              <a:t>Ph</a:t>
            </a:r>
            <a:r>
              <a:rPr b="1" lang="sr-CS" sz="2800" spc="-1" strike="noStrike">
                <a:solidFill>
                  <a:srgbClr val="333399"/>
                </a:solidFill>
                <a:latin typeface="Arial"/>
              </a:rPr>
              <a:t>.  </a:t>
            </a:r>
            <a:r>
              <a:rPr b="1" lang="sr-Latn-CS" sz="2800" spc="-1" strike="noStrike">
                <a:solidFill>
                  <a:srgbClr val="333399"/>
                </a:solidFill>
                <a:latin typeface="Arial"/>
              </a:rPr>
              <a:t>Jug</a:t>
            </a:r>
            <a:r>
              <a:rPr b="1" lang="sr-CS" sz="28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sr-Latn-CS" sz="28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Spiritus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Spiritu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centratus,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Spiritus vin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Aethanolum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90%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(во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процен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Spiritus dilutu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70%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(во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процен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одела раствор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рема врсти растврач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деле се на водене, алкохолне, глицеролне и уљане растворе: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olutiones aquoase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olutiones aethanolicae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olutiones glycerolatae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olutiones oleosae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10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рема начину примене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на растворе за унутрашњу, спољашњу или парентералну примен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80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Solutiones ophtalmicae, Collyria ili Oculoguttae</a:t>
            </a:r>
            <a:r>
              <a:rPr b="0" lang="sr-Latn-C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створи за о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80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Guttae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створи за пероралну при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80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Rhinoguttae</a:t>
            </a:r>
            <a:r>
              <a:rPr b="0" lang="sr-Latn-C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Naristillae</a:t>
            </a:r>
            <a:r>
              <a:rPr b="0" lang="sr-Latn-C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пи за н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80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О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ttoguttae</a:t>
            </a:r>
            <a:r>
              <a:rPr b="0" lang="sr-Latn-CS" sz="24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Auristillae</a:t>
            </a:r>
            <a:r>
              <a:rPr b="0" lang="sr-Latn-C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капи за у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80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Injectiones, Injectabilia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– раствори за иње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80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Inhalationes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– раствори за инхал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80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Infundibilia</a:t>
            </a:r>
            <a:r>
              <a:rPr b="0" lang="sr-Latn-C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раствори за инфу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80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Enemata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– раствори за клистир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80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Gargarismata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– раствори за гргљ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80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Irrigationes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– раствори за испир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0" y="-36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азблаживање раств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ажвањ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центне концентрац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ински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рој грама супстанце у 100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 раств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уменски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рој милилитара супстанце у 100 ml раств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./вол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број грама супстанце у 100 ml раств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./теж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рој милилитара супстанце у 100 грама раств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99136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зр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ђивање познатог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тежинск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процента (а) на жељени тежински проценат (ц)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- метода израчунавања ”преко крста“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о с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е раз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лажива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врши додавањем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истог растварача тј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разређивача који не садржи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руг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компонент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, концентрациј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б=0%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= (ц-б)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ц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Б =  а - ц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Ц =  а – 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"/>
          <p:cNvSpPr/>
          <p:nvPr/>
        </p:nvSpPr>
        <p:spPr>
          <a:xfrm>
            <a:off x="609480" y="3200400"/>
            <a:ext cx="990720" cy="914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>
            <a:off x="2133720" y="4419720"/>
            <a:ext cx="1066680" cy="914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 flipV="1">
            <a:off x="762120" y="4343040"/>
            <a:ext cx="914400" cy="7621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V="1">
            <a:off x="1981080" y="3200400"/>
            <a:ext cx="990720" cy="914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79280" y="380880"/>
            <a:ext cx="8763120" cy="56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ер: припрема раствора водоник пероксида 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Solutio Hidrogenii peroxidi</a:t>
            </a: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Jug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прописује хидроген пероксид у два облик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- концентровани 30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32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1" lang="sr-Latn-CS" sz="3200" spc="-1" strike="noStrike">
                <a:solidFill>
                  <a:srgbClr val="800000"/>
                </a:solidFill>
                <a:latin typeface="Arial"/>
              </a:rPr>
              <a:t>Solutio Hidrogenii peroxidi concentrat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разблажени 3%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Latn-CS" sz="3200" spc="-1" strike="noStrike">
                <a:solidFill>
                  <a:srgbClr val="800000"/>
                </a:solidFill>
                <a:latin typeface="Arial"/>
              </a:rPr>
              <a:t>(Solutio Hidrogenii peroxidi diluta)</a:t>
            </a:r>
            <a:r>
              <a:rPr b="1" lang="sr-CS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армакопеја прописуј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и јед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 од водоник пероксида не сме  се применити у другој концентрацији</a:t>
            </a:r>
            <a:r>
              <a:rPr b="0" lang="sr-CS" sz="3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800000"/>
                </a:solidFill>
                <a:latin typeface="Arial"/>
              </a:rPr>
              <a:t>већ само у концентрацији 0,3%</a:t>
            </a:r>
            <a:r>
              <a:rPr b="0" lang="sr-CS" sz="3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Тај податак је у фармакопеји наведен за сваки од њих у виду</a:t>
            </a:r>
            <a:r>
              <a:rPr b="1" lang="sr-C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2400" spc="-1" strike="noStrike" u="sng">
                <a:solidFill>
                  <a:srgbClr val="800000"/>
                </a:solidFill>
                <a:uFillTx/>
                <a:latin typeface="Arial"/>
              </a:rPr>
              <a:t>средње концентрације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1% за концентровани водник перокс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(1% од 30% је </a:t>
            </a:r>
            <a:r>
              <a:rPr b="1" lang="sr-CS" sz="3200" spc="-1" strike="noStrike" u="sng">
                <a:solidFill>
                  <a:srgbClr val="800000"/>
                </a:solidFill>
                <a:uFillTx/>
                <a:latin typeface="Arial"/>
              </a:rPr>
              <a:t>0,3%)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10% за разблажени водник перокси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(10% од 3% је </a:t>
            </a:r>
            <a:r>
              <a:rPr b="1" lang="sr-CS" sz="3200" spc="-1" strike="noStrike" u="sng">
                <a:solidFill>
                  <a:srgbClr val="800000"/>
                </a:solidFill>
                <a:uFillTx/>
                <a:latin typeface="Arial"/>
              </a:rPr>
              <a:t>0,3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124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РАСТВ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01600" y="836280"/>
            <a:ext cx="89424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r-CS" sz="3200" spc="-1" strike="noStrike">
                <a:solidFill>
                  <a:srgbClr val="800000"/>
                </a:solidFill>
                <a:latin typeface="Arial"/>
              </a:rPr>
              <a:t>Течни бистри лековити препарати намењени за спољашњу или унутрашњу употребу</a:t>
            </a:r>
            <a:r>
              <a:rPr b="0" lang="sr-CS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Израђују се растварањем једне или више супстанци у растварач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Супстанце се саме растварају у растварачу или се додају друге супстанце које убрзавају или потпомажу  растварање главно делујуће компонен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6904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6904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00"/>
                </a:solidFill>
                <a:latin typeface="Arial"/>
              </a:rPr>
              <a:t>Концентровани раствор водоник пероксида (30%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6904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800000"/>
                </a:solidFill>
                <a:latin typeface="Arial"/>
              </a:rPr>
              <a:t>НИКАД СЕ НЕ ИЗДАЈЕ ПАЦИЈЕНТУ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6904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800000"/>
                </a:solidFill>
                <a:latin typeface="Arial"/>
              </a:rPr>
              <a:t>НИ У ЈЕДНОМ СЛУЧАЈУ!</a:t>
            </a:r>
            <a:r>
              <a:rPr b="0" lang="sr-CS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78920" y="259920"/>
            <a:ext cx="8713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ацијенту се може издати само раствор припремељен на један од два могућа приступ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издаје се 3% раствор хидроген пероксида</a:t>
            </a:r>
            <a:r>
              <a:rPr b="0" lang="sr-C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olutio Hidrogeni peroxidi diluta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) који пацијент</a:t>
            </a:r>
            <a:r>
              <a:rPr b="0" lang="sr-C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2800" spc="-1" strike="noStrike" u="sng">
                <a:solidFill>
                  <a:srgbClr val="800000"/>
                </a:solidFill>
                <a:uFillTx/>
                <a:latin typeface="Arial"/>
              </a:rPr>
              <a:t>мора пре употребе додатно да разблажи</a:t>
            </a:r>
            <a:r>
              <a:rPr b="0" lang="sr-C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то се наглашава у сигнатури (испуњен фармакопејски захтев да се сме апликовати само 0,3 %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издаје се 0,3% раствор који пацијент не мора додатно да разбла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Rp/ </a:t>
            </a:r>
            <a:r>
              <a:rPr b="1" lang="sr-Latn-CS" sz="3600" spc="-1" strike="noStrike">
                <a:solidFill>
                  <a:srgbClr val="800000"/>
                </a:solidFill>
                <a:latin typeface="Arial"/>
              </a:rPr>
              <a:t>Hidrogeni peroxidi sol. dil </a:t>
            </a:r>
            <a:r>
              <a:rPr b="1" lang="sr-CS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Latn-CS" sz="3600" spc="-1" strike="noStrike">
                <a:solidFill>
                  <a:srgbClr val="800000"/>
                </a:solidFill>
                <a:latin typeface="Arial"/>
              </a:rPr>
              <a:t>50</a:t>
            </a:r>
            <a:r>
              <a:rPr b="1" lang="sr-CS" sz="36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sr-Latn-CS" sz="3600" spc="-1" strike="noStrike">
                <a:solidFill>
                  <a:srgbClr val="8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CS" sz="36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1" i="1" lang="es-ES" sz="3600" spc="-1" strike="noStrike">
                <a:solidFill>
                  <a:srgbClr val="800000"/>
                </a:solidFill>
                <a:latin typeface="Arial"/>
              </a:rPr>
              <a:t>D</a:t>
            </a:r>
            <a:r>
              <a:rPr b="1" i="1" lang="sr-CS" sz="36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1" i="1" lang="es-ES" sz="3600" spc="-1" strike="noStrike">
                <a:solidFill>
                  <a:srgbClr val="800000"/>
                </a:solidFill>
                <a:latin typeface="Arial"/>
              </a:rPr>
              <a:t>S</a:t>
            </a:r>
            <a:r>
              <a:rPr b="1" i="1" lang="sr-CS" sz="3600" spc="-1" strike="noStrike">
                <a:solidFill>
                  <a:srgbClr val="800000"/>
                </a:solidFill>
                <a:latin typeface="Arial"/>
              </a:rPr>
              <a:t>.  споља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30 %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H</a:t>
            </a:r>
            <a:r>
              <a:rPr b="0" lang="sr-Latn-CS" sz="2400" spc="-1" strike="noStrike" baseline="-25000">
                <a:solidFill>
                  <a:srgbClr val="800000"/>
                </a:solidFill>
                <a:latin typeface="Arial"/>
              </a:rPr>
              <a:t>2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O</a:t>
            </a:r>
            <a:r>
              <a:rPr b="0" lang="sr-Latn-CS" sz="2400" spc="-1" strike="noStrike" baseline="-25000">
                <a:solidFill>
                  <a:srgbClr val="800000"/>
                </a:solidFill>
                <a:latin typeface="Arial"/>
              </a:rPr>
              <a:t>2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                    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3 грама концентрованог 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30%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(3-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9900"/>
                </a:solidFill>
                <a:latin typeface="Arial"/>
              </a:rPr>
              <a:t>0 %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                 </a:t>
            </a:r>
            <a:r>
              <a:rPr b="1" lang="sr-CS" sz="2400" spc="-1" strike="noStrike" u="sng">
                <a:solidFill>
                  <a:srgbClr val="009900"/>
                </a:solidFill>
                <a:uFillTx/>
                <a:latin typeface="Arial"/>
              </a:rPr>
              <a:t>27 грама  (30 – 3)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sr-Latn-CS" sz="2400" spc="-1" strike="noStrike">
                <a:solidFill>
                  <a:srgbClr val="808080"/>
                </a:solidFill>
                <a:latin typeface="Arial"/>
              </a:rPr>
              <a:t>        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30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грама раствора 3 %  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sr-Latn-CS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1" lang="sr-Latn-CS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30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гр. 3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% </a:t>
            </a:r>
            <a:r>
              <a:rPr b="1" lang="sr-Latn-CS" sz="1800" spc="-1" strike="noStrike" baseline="-25000">
                <a:solidFill>
                  <a:srgbClr val="ff3300"/>
                </a:solidFill>
                <a:latin typeface="Arial"/>
              </a:rPr>
              <a:t>H2O2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 : 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3 гр.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 30%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 baseline="-25000">
                <a:solidFill>
                  <a:srgbClr val="800000"/>
                </a:solidFill>
                <a:latin typeface="Arial"/>
              </a:rPr>
              <a:t>H2O2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 =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50 гр.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% </a:t>
            </a:r>
            <a:r>
              <a:rPr b="1" lang="sr-Latn-CS" sz="1800" spc="-1" strike="noStrike" baseline="-25000">
                <a:solidFill>
                  <a:srgbClr val="808080"/>
                </a:solidFill>
                <a:latin typeface="Arial"/>
              </a:rPr>
              <a:t>H2O2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 : 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X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 гр.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30%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 baseline="-25000">
                <a:solidFill>
                  <a:srgbClr val="800000"/>
                </a:solidFill>
                <a:latin typeface="Arial"/>
              </a:rPr>
              <a:t>H2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X =  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5  грама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 30 %   H</a:t>
            </a:r>
            <a:r>
              <a:rPr b="1" lang="sr-Latn-CS" sz="2400" spc="-1" strike="noStrike" baseline="-25000">
                <a:solidFill>
                  <a:srgbClr val="800000"/>
                </a:solidFill>
                <a:latin typeface="Arial"/>
              </a:rPr>
              <a:t>2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O</a:t>
            </a:r>
            <a:r>
              <a:rPr b="1" lang="sr-Latn-CS" sz="2400" spc="-1" strike="noStrike" baseline="-25000">
                <a:solidFill>
                  <a:srgbClr val="800000"/>
                </a:solidFill>
                <a:latin typeface="Arial"/>
              </a:rPr>
              <a:t>2</a:t>
            </a:r>
            <a:r>
              <a:rPr b="0" lang="sr-Latn-CS" sz="2400" spc="-1" strike="noStrike" baseline="-25000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 значи да се одмерава 5 грама 30%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 додаје  45 грама воде да би се добило 50 грама 3% раствор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здавање и сигнатура: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у бочици од 50 грама са црвеном сигнатуром на којој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ОБАВЕЗНО ПИШЕ РАЗБЛАЖИТИ ЈЕДНУ КАШИКУ СА ПОЛА ЧАШЕ В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1219320" y="685800"/>
            <a:ext cx="761760" cy="457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2743200" y="1523880"/>
            <a:ext cx="990720" cy="533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 flipV="1">
            <a:off x="1066680" y="1447560"/>
            <a:ext cx="762120" cy="5331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 flipV="1">
            <a:off x="2743200" y="762120"/>
            <a:ext cx="838080" cy="457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839440" cy="64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30 %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sr-Latn-C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sr-Latn-C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0,3 грама концентрованог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30%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(0,3-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33cc"/>
                </a:solidFill>
                <a:latin typeface="Arial"/>
              </a:rPr>
              <a:t>0,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cc00"/>
                </a:solidFill>
                <a:latin typeface="Arial"/>
              </a:rPr>
              <a:t>0 %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         </a:t>
            </a:r>
            <a:r>
              <a:rPr b="1" lang="sr-CS" sz="2400" spc="-1" strike="noStrike" u="sng">
                <a:solidFill>
                  <a:srgbClr val="00cc00"/>
                </a:solidFill>
                <a:uFillTx/>
                <a:latin typeface="Arial"/>
              </a:rPr>
              <a:t>29,7 грама  (30 – 0,3)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sr-Latn-CS" sz="24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sr-Latn-CS" sz="2400" spc="-1" strike="noStrike">
                <a:solidFill>
                  <a:srgbClr val="0033cc"/>
                </a:solidFill>
                <a:latin typeface="Arial"/>
              </a:rPr>
              <a:t>30 </a:t>
            </a:r>
            <a:r>
              <a:rPr b="1" lang="sr-CS" sz="2400" spc="-1" strike="noStrike">
                <a:solidFill>
                  <a:srgbClr val="0033cc"/>
                </a:solidFill>
                <a:latin typeface="Arial"/>
              </a:rPr>
              <a:t>грама раствора 0,3 %  </a:t>
            </a:r>
            <a:r>
              <a:rPr b="1" lang="sr-Latn-CS" sz="24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sr-Latn-C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1" lang="sr-Latn-CS" sz="2400" spc="-1" strike="noStrike">
                <a:solidFill>
                  <a:srgbClr val="0033cc"/>
                </a:solidFill>
                <a:latin typeface="Arial"/>
              </a:rPr>
              <a:t>O</a:t>
            </a:r>
            <a:r>
              <a:rPr b="1" lang="sr-Latn-C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cc"/>
                </a:solidFill>
                <a:latin typeface="Arial"/>
              </a:rPr>
              <a:t>30 </a:t>
            </a:r>
            <a:r>
              <a:rPr b="1" lang="sr-CS" sz="2400" spc="-1" strike="noStrike">
                <a:solidFill>
                  <a:srgbClr val="0033cc"/>
                </a:solidFill>
                <a:latin typeface="Arial"/>
              </a:rPr>
              <a:t>гр. 0,3</a:t>
            </a:r>
            <a:r>
              <a:rPr b="1" lang="sr-Latn-CS" sz="2400" spc="-1" strike="noStrike">
                <a:solidFill>
                  <a:srgbClr val="0033cc"/>
                </a:solidFill>
                <a:latin typeface="Arial"/>
              </a:rPr>
              <a:t>% </a:t>
            </a:r>
            <a:r>
              <a:rPr b="1" lang="sr-Latn-CS" sz="1800" spc="-1" strike="noStrike" baseline="-25000">
                <a:solidFill>
                  <a:srgbClr val="0033cc"/>
                </a:solidFill>
                <a:latin typeface="Arial"/>
              </a:rPr>
              <a:t>H2O2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 :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0,3 гр.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30% </a:t>
            </a:r>
            <a:r>
              <a:rPr b="1" lang="sr-Latn-CS" sz="1800" spc="-1" strike="noStrike" baseline="-25000">
                <a:solidFill>
                  <a:srgbClr val="ff0000"/>
                </a:solidFill>
                <a:latin typeface="Arial"/>
              </a:rPr>
              <a:t>H2O2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 = </a:t>
            </a:r>
            <a:r>
              <a:rPr b="1" lang="sr-CS" sz="2400" spc="-1" strike="noStrike">
                <a:solidFill>
                  <a:srgbClr val="0033cc"/>
                </a:solidFill>
                <a:latin typeface="Arial"/>
              </a:rPr>
              <a:t>50 гр.</a:t>
            </a:r>
            <a:r>
              <a:rPr b="1" lang="sr-Latn-C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33cc"/>
                </a:solidFill>
                <a:latin typeface="Arial"/>
              </a:rPr>
              <a:t>0,3</a:t>
            </a:r>
            <a:r>
              <a:rPr b="1" lang="sr-Latn-CS" sz="2400" spc="-1" strike="noStrike">
                <a:solidFill>
                  <a:srgbClr val="0033cc"/>
                </a:solidFill>
                <a:latin typeface="Arial"/>
              </a:rPr>
              <a:t>% </a:t>
            </a:r>
            <a:r>
              <a:rPr b="1" lang="sr-Latn-CS" sz="1800" spc="-1" strike="noStrike" baseline="-25000">
                <a:solidFill>
                  <a:srgbClr val="0033cc"/>
                </a:solidFill>
                <a:latin typeface="Arial"/>
              </a:rPr>
              <a:t>H2O2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 :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 гр.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30% </a:t>
            </a:r>
            <a:r>
              <a:rPr b="1" lang="sr-Latn-CS" sz="1800" spc="-1" strike="noStrike" baseline="-25000">
                <a:solidFill>
                  <a:srgbClr val="ff0000"/>
                </a:solidFill>
                <a:latin typeface="Arial"/>
              </a:rPr>
              <a:t>H2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X = 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0,5  грама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30 %   H</a:t>
            </a:r>
            <a:r>
              <a:rPr b="1" lang="sr-Latn-C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sr-Latn-C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sr-Latn-CS" sz="24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мерава се 0,5 грама 30%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 додаје  49,5 грама воде да би се добило 50 грама 0,3% раствор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здавање и сигнатура: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у бочици од 50 грама са црвеном сигнатуром на којој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ПИШЕ “СПОЉА НЕРАЗБЛАЖЕНО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"/>
          <p:cNvSpPr/>
          <p:nvPr/>
        </p:nvSpPr>
        <p:spPr>
          <a:xfrm>
            <a:off x="1258920" y="836640"/>
            <a:ext cx="762120" cy="457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"/>
          <p:cNvSpPr/>
          <p:nvPr/>
        </p:nvSpPr>
        <p:spPr>
          <a:xfrm>
            <a:off x="2743200" y="1523880"/>
            <a:ext cx="990720" cy="533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 flipV="1">
            <a:off x="1042920" y="1699920"/>
            <a:ext cx="792360" cy="461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 flipV="1">
            <a:off x="2743200" y="762120"/>
            <a:ext cx="838080" cy="457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 %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sr-C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 грама концентрованог 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%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     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8-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r>
              <a:rPr b="1" lang="sr-C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0 %</a:t>
            </a: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      </a:t>
            </a:r>
            <a:r>
              <a:rPr b="1" lang="sr-CS" sz="2000" spc="-1" strike="noStrike" u="sng">
                <a:solidFill>
                  <a:srgbClr val="00cc00"/>
                </a:solidFill>
                <a:uFillTx/>
                <a:latin typeface="Times New Roman"/>
                <a:ea typeface="Times New Roman"/>
              </a:rPr>
              <a:t>22 грама  (30 – 8) в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  </a:t>
            </a:r>
            <a:r>
              <a:rPr b="0" lang="sr-Latn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 </a:t>
            </a:r>
            <a:r>
              <a:rPr b="1" lang="sr-Latn-C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30 </a:t>
            </a:r>
            <a:r>
              <a:rPr b="1" lang="sr-C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грама раствора 8 %  </a:t>
            </a:r>
            <a:r>
              <a:rPr b="1" lang="sr-Latn-C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sr-Latn-CS" sz="2000" spc="-1" strike="noStrike" baseline="-25000">
                <a:solidFill>
                  <a:srgbClr val="0033cc"/>
                </a:solidFill>
                <a:latin typeface="Times New Roman"/>
                <a:ea typeface="Times New Roman"/>
              </a:rPr>
              <a:t>2</a:t>
            </a:r>
            <a:r>
              <a:rPr b="1" lang="sr-Latn-C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O</a:t>
            </a:r>
            <a:r>
              <a:rPr b="1" lang="sr-Latn-CS" sz="2000" spc="-1" strike="noStrike" baseline="-25000">
                <a:solidFill>
                  <a:srgbClr val="0033cc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30 </a:t>
            </a:r>
            <a:r>
              <a:rPr b="1" lang="sr-C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гр. 8</a:t>
            </a:r>
            <a:r>
              <a:rPr b="1" lang="sr-Latn-C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% </a:t>
            </a:r>
            <a:r>
              <a:rPr b="1" lang="sr-Latn-CS" sz="2000" spc="-1" strike="noStrike" baseline="-25000">
                <a:solidFill>
                  <a:srgbClr val="0033cc"/>
                </a:solidFill>
                <a:latin typeface="Times New Roman"/>
                <a:ea typeface="Times New Roman"/>
              </a:rPr>
              <a:t>H2O2</a:t>
            </a:r>
            <a:r>
              <a:rPr b="1" lang="sr-Latn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: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 гр.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30% </a:t>
            </a:r>
            <a:r>
              <a:rPr b="1" lang="sr-Latn-C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H2O2</a:t>
            </a:r>
            <a:r>
              <a:rPr b="1" lang="sr-Latn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= </a:t>
            </a:r>
            <a:r>
              <a:rPr b="1" lang="sr-C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50 гр.</a:t>
            </a:r>
            <a:r>
              <a:rPr b="1" lang="sr-Latn-C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8</a:t>
            </a:r>
            <a:r>
              <a:rPr b="1" lang="sr-Latn-C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% </a:t>
            </a:r>
            <a:r>
              <a:rPr b="1" lang="sr-Latn-CS" sz="2000" spc="-1" strike="noStrike" baseline="-25000">
                <a:solidFill>
                  <a:srgbClr val="0033cc"/>
                </a:solidFill>
                <a:latin typeface="Times New Roman"/>
                <a:ea typeface="Times New Roman"/>
              </a:rPr>
              <a:t>H2O2</a:t>
            </a:r>
            <a:r>
              <a:rPr b="1" lang="sr-Latn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: 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гр.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% </a:t>
            </a:r>
            <a:r>
              <a:rPr b="1" lang="sr-Latn-C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H2O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= 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,3  грама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30 %   H</a:t>
            </a:r>
            <a:r>
              <a:rPr b="1" lang="sr-Latn-C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sr-Latn-C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мерава се 13,3 грама 30%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одаје  36,7 грама воде да би се добило 50 грама 8% раствора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авање и сигнатура: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бочици од 50 грама са црвеном сигнатуром на којој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ИШЕ “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водоник пероксид 8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%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"/>
          <p:cNvSpPr/>
          <p:nvPr/>
        </p:nvSpPr>
        <p:spPr>
          <a:xfrm>
            <a:off x="1547640" y="1557360"/>
            <a:ext cx="762120" cy="457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"/>
          <p:cNvSpPr/>
          <p:nvPr/>
        </p:nvSpPr>
        <p:spPr>
          <a:xfrm>
            <a:off x="2916360" y="2421000"/>
            <a:ext cx="761760" cy="457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 flipV="1">
            <a:off x="1187280" y="2349360"/>
            <a:ext cx="792360" cy="462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 flipV="1">
            <a:off x="2771640" y="1628640"/>
            <a:ext cx="792360" cy="462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8408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/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thanoli diluti 25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S. 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 контракције волумена до којег долази када се помешају запремине воде и алкохола за разблаживање се користе искључиво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ински процен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нти наведени у прописима рецепата за припрему алкохола су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умен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6%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луменских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аци из таблиц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g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,03 вол %  :     93,87 теж %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96 вол %    :    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  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009900"/>
                </a:solidFill>
                <a:uFillTx/>
                <a:latin typeface="Times New Roman"/>
                <a:ea typeface="Times New Roman"/>
              </a:rPr>
              <a:t>93,84 % тежин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0 % волумен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,03 вол %   : 62,43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 %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70 вол %    :    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  %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009900"/>
                </a:solidFill>
                <a:uFillTx/>
                <a:latin typeface="Times New Roman"/>
                <a:ea typeface="Times New Roman"/>
              </a:rPr>
              <a:t>62,4  % тежин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Rp/ </a:t>
            </a:r>
            <a:r>
              <a:rPr b="1" lang="sr-Latn-CS" sz="1800" spc="-1" strike="noStrike">
                <a:solidFill>
                  <a:srgbClr val="800000"/>
                </a:solidFill>
                <a:latin typeface="Arial"/>
              </a:rPr>
              <a:t>Aethanoli diluti 25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sr-Latn-CS" sz="1800" spc="-1" strike="noStrike">
                <a:solidFill>
                  <a:srgbClr val="800000"/>
                </a:solidFill>
                <a:latin typeface="Arial"/>
              </a:rPr>
              <a:t>D. S. </a:t>
            </a:r>
            <a:r>
              <a:rPr b="1" i="1" lang="sr-CS" sz="1800" spc="-1" strike="noStrike">
                <a:solidFill>
                  <a:srgbClr val="800000"/>
                </a:solidFill>
                <a:latin typeface="Arial"/>
              </a:rPr>
              <a:t>Спо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9900"/>
                </a:solidFill>
                <a:uFillTx/>
                <a:latin typeface="Arial"/>
              </a:rPr>
              <a:t>93,84 % тежинских</a:t>
            </a:r>
            <a:r>
              <a:rPr b="0" lang="sr-CS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1600" spc="-1" strike="noStrike">
                <a:solidFill>
                  <a:srgbClr val="808080"/>
                </a:solidFill>
                <a:latin typeface="Arial"/>
              </a:rPr>
              <a:t>                            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62,4 грама 96% етанол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(62,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sr-CS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1600" spc="-1" strike="noStrike">
                <a:solidFill>
                  <a:srgbClr val="808080"/>
                </a:solidFill>
                <a:latin typeface="Arial"/>
              </a:rPr>
              <a:t>                     </a:t>
            </a:r>
            <a:r>
              <a:rPr b="0" lang="sr-CS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16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                                    </a:t>
            </a:r>
            <a:r>
              <a:rPr b="1" lang="ru-RU" sz="1600" spc="-1" strike="noStrike" u="sng">
                <a:solidFill>
                  <a:srgbClr val="009900"/>
                </a:solidFill>
                <a:uFillTx/>
                <a:latin typeface="Arial"/>
              </a:rPr>
              <a:t>62,4  % тежински</a:t>
            </a:r>
            <a:r>
              <a:rPr b="1" lang="sr-CS" sz="1600" spc="-1" strike="noStrike" u="sng">
                <a:solidFill>
                  <a:srgbClr val="009900"/>
                </a:solidFill>
                <a:uFillTx/>
                <a:latin typeface="Arial"/>
              </a:rPr>
              <a:t>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sr-CS" sz="1600" spc="-1" strike="noStrike">
                <a:solidFill>
                  <a:srgbClr val="80808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0 %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вода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31,44 грама воде  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93,84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2,4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93,84 грама етанола</a:t>
            </a:r>
            <a:r>
              <a:rPr b="0" lang="sr-C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009900"/>
                </a:solidFill>
                <a:uFillTx/>
                <a:latin typeface="Arial"/>
              </a:rPr>
              <a:t>62,4  % тежинских</a:t>
            </a:r>
            <a:r>
              <a:rPr b="1" lang="ru-RU" sz="1600" spc="-1" strike="noStrike" u="sng">
                <a:solidFill>
                  <a:srgbClr val="808080"/>
                </a:solidFill>
                <a:uFillTx/>
                <a:latin typeface="Arial"/>
              </a:rPr>
              <a:t> (тј.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70% вол</a:t>
            </a:r>
            <a:r>
              <a:rPr b="1" lang="ru-RU" sz="1600" spc="-1" strike="noStrike" u="sng">
                <a:solidFill>
                  <a:srgbClr val="808080"/>
                </a:solidFill>
                <a:uFillTx/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 наведених 25 грама препрата из рецепта важи следећа пропорциј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62,4 </a:t>
            </a:r>
            <a:r>
              <a:rPr b="1" lang="sr-CS" sz="2400" spc="-1" strike="noStrike" baseline="-25000">
                <a:solidFill>
                  <a:srgbClr val="000000"/>
                </a:solidFill>
                <a:latin typeface="Arial"/>
              </a:rPr>
              <a:t>грама 96 %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:  93,84 </a:t>
            </a:r>
            <a:r>
              <a:rPr b="1" lang="sr-CS" sz="2400" spc="-1" strike="noStrike" baseline="-25000">
                <a:solidFill>
                  <a:srgbClr val="000000"/>
                </a:solidFill>
                <a:latin typeface="Arial"/>
              </a:rPr>
              <a:t>грама 70% вол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 baseline="-25000">
                <a:solidFill>
                  <a:srgbClr val="000000"/>
                </a:solidFill>
                <a:latin typeface="Arial"/>
              </a:rPr>
              <a:t>грама 96 %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:  25 </a:t>
            </a:r>
            <a:r>
              <a:rPr b="1" lang="sr-CS" sz="2400" spc="-1" strike="noStrike" baseline="-25000">
                <a:solidFill>
                  <a:srgbClr val="000000"/>
                </a:solidFill>
                <a:latin typeface="Arial"/>
              </a:rPr>
              <a:t>грама 70 %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16,62 грама 96% етан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5 грама препарата - 16,62 грама 96% етано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 8,3 грама в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7"/>
          <p:cNvSpPr/>
          <p:nvPr/>
        </p:nvSpPr>
        <p:spPr>
          <a:xfrm flipV="1">
            <a:off x="4356000" y="1483920"/>
            <a:ext cx="79236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 flipV="1">
            <a:off x="1619280" y="2276640"/>
            <a:ext cx="10810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>
            <a:off x="1835280" y="1413000"/>
            <a:ext cx="8650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0"/>
          <p:cNvSpPr/>
          <p:nvPr/>
        </p:nvSpPr>
        <p:spPr>
          <a:xfrm>
            <a:off x="3995640" y="213372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583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пис начина израде разблаженог алкохола је официналан и п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g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који се може користи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thanolu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ntratu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qu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ificat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432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670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Rp/ </a:t>
            </a:r>
            <a:r>
              <a:rPr b="0" lang="sr-Latn-CS" sz="2800" spc="-1" strike="noStrike">
                <a:solidFill>
                  <a:srgbClr val="800000"/>
                </a:solidFill>
                <a:latin typeface="Arial"/>
              </a:rPr>
              <a:t>Iodi solutionis aquosa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е</a:t>
            </a:r>
            <a:r>
              <a:rPr b="0" lang="sr-Latn-CS" sz="2800" spc="-1" strike="noStrike">
                <a:solidFill>
                  <a:srgbClr val="800000"/>
                </a:solidFill>
                <a:latin typeface="Arial"/>
              </a:rPr>
              <a:t> 10,00</a:t>
            </a:r>
            <a:br>
              <a:rPr sz="2800"/>
            </a:br>
            <a:r>
              <a:rPr b="1" i="1" lang="sr-Latn-C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Latn-C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Latn-C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Latn-CS" sz="2800" spc="-1" strike="noStrike">
                <a:solidFill>
                  <a:srgbClr val="800000"/>
                </a:solidFill>
                <a:latin typeface="Arial"/>
              </a:rPr>
              <a:t>S</a:t>
            </a:r>
            <a:r>
              <a:rPr b="1" i="1" lang="sr-CS" sz="2800" spc="-1" strike="noStrike">
                <a:solidFill>
                  <a:srgbClr val="800000"/>
                </a:solidFill>
                <a:latin typeface="Arial"/>
              </a:rPr>
              <a:t>. Споља </a:t>
            </a:r>
            <a:br>
              <a:rPr sz="2800"/>
            </a:br>
            <a:br>
              <a:rPr sz="2800"/>
            </a:br>
            <a:r>
              <a:rPr b="0" lang="sr-CS" sz="2800" spc="-1" strike="noStrike">
                <a:solidFill>
                  <a:srgbClr val="800000"/>
                </a:solidFill>
                <a:latin typeface="Arial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Jug IV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даје пропис за водени раствор јода чији је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иноним Луголов раствор 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olutio Lugoli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пис дат за препарат од 100 грама - све поделимо са 10, јер правимо 10 пута мању количину и добијамо вредности:</a:t>
            </a:r>
            <a:br>
              <a:rPr sz="2400"/>
            </a:b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dum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   5,00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0,50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um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atum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0,00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,00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ificata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85,00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8,50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00 грам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       10 грама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4716360" y="4797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51920" y="0"/>
            <a:ext cx="8991720" cy="60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SOLVENS -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раствар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SOLVENDUM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– супстанца која се раств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SOLUTIO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– раств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Растварачи су НАЈЧЕШЋЕ</a:t>
            </a:r>
            <a:r>
              <a:rPr b="1" lang="sr-CS" sz="3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r-C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r-C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r-C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r-CS" sz="3200" spc="-1" strike="noStrike">
                <a:solidFill>
                  <a:srgbClr val="800000"/>
                </a:solidFill>
                <a:latin typeface="Arial"/>
              </a:rPr>
              <a:t>ВОДА</a:t>
            </a:r>
            <a:r>
              <a:rPr b="1" lang="sr-CS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CS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800000"/>
                </a:solidFill>
                <a:latin typeface="Arial"/>
              </a:rPr>
              <a:t>ЕТАНОЛ</a:t>
            </a:r>
            <a:r>
              <a:rPr b="1" lang="sr-CS" sz="3200" spc="-1" strike="noStrike">
                <a:solidFill>
                  <a:srgbClr val="80808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(глицерол, пропиленгликол, биљна уља, течни парафин ит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зрад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од се у води готово не раствара - прави с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сићен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створ калијум јодида у који се додаје ј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од се у раствору калијум јодида добро раств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Калијум јодид је овде посредник за раствар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Обојени раствори се увек филтрира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здавање 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игнатур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 у тамној бочици, чува се заштићен од светлости, сигнатура црвена на којој пише „Споља“. У доњем левом углу сигнатуре пише се датум, а у доњем десном потпи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потреб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 антисептик, користи се неразређено за маз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28240" y="188640"/>
            <a:ext cx="8713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Rp/ </a:t>
            </a:r>
            <a:r>
              <a:rPr b="0" lang="sr-Latn-CS" sz="2800" spc="-1" strike="noStrike">
                <a:solidFill>
                  <a:srgbClr val="800000"/>
                </a:solidFill>
                <a:latin typeface="Arial"/>
              </a:rPr>
              <a:t>Iodi</a:t>
            </a:r>
            <a:r>
              <a:rPr b="1" lang="sr-Latn-C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800000"/>
                </a:solidFill>
                <a:latin typeface="Arial"/>
              </a:rPr>
              <a:t>solutionis aethanolicae 10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Latn-C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Latn-C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Latn-CS" sz="2800" spc="-1" strike="noStrike">
                <a:solidFill>
                  <a:srgbClr val="800000"/>
                </a:solidFill>
                <a:latin typeface="Arial"/>
              </a:rPr>
              <a:t>S</a:t>
            </a:r>
            <a:r>
              <a:rPr b="1" i="1" lang="sr-CS" sz="2800" spc="-1" strike="noStrike">
                <a:solidFill>
                  <a:srgbClr val="800000"/>
                </a:solidFill>
                <a:latin typeface="Arial"/>
              </a:rPr>
              <a:t>. Мазати споља разблаж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Jug IV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piritus iodi ili Tinctura iod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odum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5,00            0,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lium iodatum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4,00            0,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urificata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0,00            1,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thanolum concetr.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 81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,00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 8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00,00          10,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што се прави десет пута мања количину све састојке делити са 1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5508720" y="2924280"/>
            <a:ext cx="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вера концентрације и дозирања целог препарата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odi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ol. aethanolicae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парат је официналан у средњој концентрацији 0,3 % тј. 0,3 грама овог раствора треба да буде у 100 грама раство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 сигнатури пише споља разблаже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тавља се питање како пацијенту издати препарат и дати право упутство за коришћење?</a:t>
            </a:r>
            <a:r>
              <a:rPr b="0" lang="sr-CS" sz="3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7631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Ф 200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1грам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odi solutio aethanolica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м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54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ап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рам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 54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кап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0,3 грама :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кап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 16,2 тј.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16 капи је колич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коју пацијент треба да разблажи у 100 грама воде, што је приближно пола ча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6374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ијум јодид растварамо у истој количини вод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0,4 грама калијум јодида је потребно 0,4 грама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меравамо на капи знајући да је 1 грам воде тежак 20 кап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4 грама воде је 8 капи во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д се мери пластичним или рожнатим прибор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р је корозив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арирану чашу одмеравамо 0,4 грама калијум јодида и 8 капи воде и промешамо до раствар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 се то раствори додајемо одмерених 0,5 грама јода и промешам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им додајемо преосталих 0,6 грама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рају додајемо концентровани алкох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 промешамо, филтрирамо и сипамо преко левка у тамну бочицу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7928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суство калијум јодида овде није неопходно ради растварања јода, јер би се јод могао растворити у алкохолу у којем се добро раств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његова улога - да спречи реакцију између јода и воде која би у присуству етанола могла да оксидује етанол у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рћетну киселину</a:t>
            </a:r>
            <a:r>
              <a:rPr b="0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- настаје оксидационо средство (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ипојодатна</a:t>
            </a:r>
            <a:r>
              <a:rPr b="0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иселина</a:t>
            </a:r>
            <a:r>
              <a:rPr b="0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авање и сигнатура: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тамној бочици, сигнатура црвена на којој пише „Ставити 16 капи у ½ чаше воде и мазати споља“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оњем левом углу сигнатуре пише се датум, а у доњем десном потпи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е: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разређен само за мазање коже, а разблажен као антисептик за испирање у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7928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Разблажени алкохол 70 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пис начина израде разблаженог алкохола је официналан и п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g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који се може користи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thanolu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u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qu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ificat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3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0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грама 70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% алкохола  : 33 грама воде = 50 грама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16,5 грама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-16,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3,5 грама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 % алкох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грама 70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% алкохола : 67 грама 96 % алкохола = 50 грама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33,5 грама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 % алкох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3,5 =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,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ма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5508720" y="148428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11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Rp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di borici        1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riti dil.         50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.f. s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Latn-CS" sz="2400" spc="-1" strike="noStrike">
                <a:solidFill>
                  <a:srgbClr val="800000"/>
                </a:solidFill>
                <a:latin typeface="Arial"/>
              </a:rPr>
              <a:t>S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. споља по потре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Провера концентр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51,5г препарата. : 1,5 г борне киселине = 100 :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= 2,91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3 %  средња конц. није прекорач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меримо 16,5 грама воде и загрејемо до кључ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мо 1,5 грама борне киселине у кључалој во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е раствор охлади пренесемо у тарирану боч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опунимо до 18 грама (16,5 грама воде + 1,5 грама борне киселине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=</a:t>
            </a:r>
            <a:r>
              <a:rPr b="1" lang="sr-C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18 грам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мо 33,5 грама концентрованог алкох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опунимо водом до прописане тежине (51,5 грам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здавање: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бочици са црвеном сигнатуром на  којој пи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поља по потре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атум</a:t>
            </a:r>
            <a:r>
              <a:rPr b="1" lang="sr-C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потп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0" y="-36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едности раств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Брза апсорпција лековите супстан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Могућа к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рекција мириса и ук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доста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изичка, хемијска и микробиолишка нестабил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оступак израде раств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рдити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астворљивос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лвендума у солвенсу тј. Растварач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ци о растворљивости супстанце се налазе у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ој појединачној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монографиј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ција степена растворљивости – I волумен IV фармакопеје одељак (3 - 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зрада раств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брати одговарајућу бочицу према количини препарата који се прав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 растворне супстанце се растварају директно у бочиц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астварањ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ше супстанци или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лучају д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потребан посебан поступак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аствори се израђују у хемијској ча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се издају у одговарајућим бочиц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00720" y="260280"/>
            <a:ext cx="4514760" cy="6021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259520" cy="56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зрада раствор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је могуће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к с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ђују на хлад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арач с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рева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ко то захтевај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изичко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емијске особине супстанци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е је потребно раствор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потребн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т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колико супстанци под различитим условима, онда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потребно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пстанц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себно раств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ти, 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и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на крају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еша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атура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зависности да ли је за спољашњу или унутрашњу употребу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а или црв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5183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е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тежин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лкохола, воде, сирупа или глицеро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 могућ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ковати у бочице исте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запремине</a:t>
            </a:r>
            <a:r>
              <a:rPr b="1" lang="sr-Latn-C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АШ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ака течност има различиту густину</a:t>
            </a:r>
            <a:r>
              <a:rPr b="1" lang="sr-C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Snezana</cp:lastModifiedBy>
  <dcterms:modified xsi:type="dcterms:W3CDTF">2021-03-29T08:27:17Z</dcterms:modified>
  <cp:revision>40</cp:revision>
  <dc:subject/>
  <dc:title>Slide 1</dc:title>
</cp:coreProperties>
</file>